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605-F7DF-4DE2-9B0B-3A899CB1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06E-8768-45B4-B776-BC579702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B5C-D782-4652-B85C-AAE010BE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AF2-1BD2-4196-BBF1-8C8FDEF2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F577-EA09-49D1-88CB-A1D552B7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4BA3-2A3D-457D-8087-60327CDF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18AA-3CA8-44C3-BC33-F8323291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7E44-AF9D-424D-8BCB-674BDD12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A7BC-BF03-4E94-BC8D-4397F6B2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868F-76A0-4AB1-AB50-23C68D96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249B-56EF-4879-A73D-B8980F8C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B988-4F51-4F2E-94A7-D896C088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69E2-A4EF-4177-BA9C-7534DF14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EA59-EB50-42A2-A1C8-9A409431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A267-5D61-440D-8F91-501B70FD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0E4D-5DC7-4051-A106-4799CA4D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EC23-CAF6-44FA-9CE0-01391F3A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CF8-2696-4DCF-8827-DC6F2FDE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FFA-C4A4-40BD-8CDB-CA46809F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71C-B275-49A4-B0E5-C3DC5CB6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102-9554-4836-B134-6F9CBD17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F8B-A0E1-4EF7-92EE-4EADDB67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E92-3C73-402C-A403-57898452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96F-2686-49CC-8DEA-897A2884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0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77EDF-55DC-437D-B699-25BB75D688DF}" type="datetime">
              <a:rPr b="0" lang="en-US" sz="1200" spc="-1" strike="noStrike">
                <a:solidFill>
                  <a:srgbClr val="2f2f2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3B016-2855-4B62-8C8F-62160C3E3649}" type="slidenum">
              <a:rPr b="0" lang="en-US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804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54E5B-76A2-499E-BF70-19626421A152}" type="datetime">
              <a:rPr b="0" lang="en-US" sz="1200" spc="-1" strike="noStrike">
                <a:solidFill>
                  <a:srgbClr val="d9d4c7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4E189-50D9-48A0-8F52-CEFB92D38E13}" type="slidenum">
              <a:rPr b="0" lang="en-US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858080" cy="2000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hapter 14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6204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ost of an atom is empty space occupied by nearly massless electron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ectrically neutral particles, neutrons, are also located in the nucleu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50320" indent="-47808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number of electrons equals the number of protons in an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Rutherford_atomic_model"/>
          <p:cNvPicPr/>
          <p:nvPr/>
        </p:nvPicPr>
        <p:blipFill>
          <a:blip r:embed="rId1"/>
          <a:stretch/>
        </p:blipFill>
        <p:spPr>
          <a:xfrm>
            <a:off x="2749680" y="1828800"/>
            <a:ext cx="3644640" cy="4111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501480" y="9748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501480" y="974880"/>
            <a:ext cx="559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im26"/>
          <p:cNvPicPr/>
          <p:nvPr/>
        </p:nvPicPr>
        <p:blipFill>
          <a:blip r:embed="rId1"/>
          <a:stretch/>
        </p:blipFill>
        <p:spPr>
          <a:xfrm>
            <a:off x="270000" y="1571760"/>
            <a:ext cx="84931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cont</a:t>
            </a:r>
            <a:r>
              <a:rPr b="0" lang="ja-JP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7000" y="1558800"/>
            <a:ext cx="586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erford was shocked when some alpha particles were veering off at large ang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vely charged alpha particles were moving with such high speed that it would take a large positive charge to cause them to bounce b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erford and his team had to come up with an explanation for these unexpected resu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im30"/>
          <p:cNvPicPr/>
          <p:nvPr/>
        </p:nvPicPr>
        <p:blipFill>
          <a:blip r:embed="rId1"/>
          <a:stretch/>
        </p:blipFill>
        <p:spPr>
          <a:xfrm>
            <a:off x="5894280" y="1400040"/>
            <a:ext cx="324972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501480" y="974880"/>
            <a:ext cx="74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cont</a:t>
            </a:r>
            <a:r>
              <a:rPr b="0" lang="ja-JP" sz="24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501480" y="1828800"/>
            <a:ext cx="430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ypothesized that almost all the mass of the atom and all of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charge are crammed into an incredibly small region of space at the center of the atom called the nucle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m28"/>
          <p:cNvPicPr/>
          <p:nvPr/>
        </p:nvPicPr>
        <p:blipFill>
          <a:blip r:embed="rId1"/>
          <a:stretch/>
        </p:blipFill>
        <p:spPr>
          <a:xfrm>
            <a:off x="5067360" y="1558800"/>
            <a:ext cx="3695760" cy="35481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501480" y="5861160"/>
            <a:ext cx="792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20 scientists identified the positive charges in the nucleus a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The 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501480" y="1819440"/>
            <a:ext cx="7880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utr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electrons have almost no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Rutherfor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model, the only other particle in the atom was the prot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eant that the mass of an atom should have been approximately equal to the mass of it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t was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The 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501480" y="1819440"/>
            <a:ext cx="788040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most atoms is at least twice as great as the mass of its prot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proposed that another particle must be in the nucleus to account for the extra m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icle, which was later call the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neut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ould have the same mass as a proton and be electrically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ook another 20 years before scientists were able to show by more modern experiments that atoms contain neu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28600"/>
                <a:tab algn="l" pos="19432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501480" y="974880"/>
            <a:ext cx="666144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therford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Experimen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Ne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im35"/>
          <p:cNvPicPr/>
          <p:nvPr/>
        </p:nvPicPr>
        <p:blipFill>
          <a:blip r:embed="rId1"/>
          <a:stretch/>
        </p:blipFill>
        <p:spPr>
          <a:xfrm>
            <a:off x="4800600" y="1828800"/>
            <a:ext cx="3848040" cy="3838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44280" y="1828800"/>
            <a:ext cx="4756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of the atom was revised again to include the newly discovered neutron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Further Developments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n into the twentieth century, physicists were working on a theory to explain how electrons are arranged in an ato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hysicist named Niels Bohr even calculated exactly what energy levels those orbits would represent for the hydrogen ato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ever, scientists soon learned that electrons are in constant, unpredictable motion and can</a:t>
            </a:r>
            <a:r>
              <a:rPr b="0" lang="ja-JP" sz="26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 be described easily by an orbi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934640"/>
            <a:ext cx="3505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modern day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lectron cloud mode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xplains the unpredictable wave behavior of electrons, which could be anywhere in the area surrounding the nucleu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0240" indent="-300240"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5" descr="atomic_cloud_model"/>
          <p:cNvPicPr/>
          <p:nvPr/>
        </p:nvPicPr>
        <p:blipFill>
          <a:blip r:embed="rId1"/>
          <a:stretch/>
        </p:blipFill>
        <p:spPr>
          <a:xfrm>
            <a:off x="3962520" y="2133720"/>
            <a:ext cx="5181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Greek philosophers devised a theory of atoms, or tiny particl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John Dalton combined the idea of elements with the Greek theory of the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Matter is made up of atom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toms cannot be divided into smaller piec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127880" indent="-488160">
              <a:spcBef>
                <a:spcPts val="726"/>
              </a:spcBef>
              <a:buClr>
                <a:srgbClr val="9f2936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ll atoms of an element are exactly alik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rooke</a:t>
            </a:r>
            <a:r>
              <a:rPr b="0" lang="ja-JP" sz="4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s Experiment</a:t>
            </a: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 - </a:t>
            </a: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athode Ray tub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8520" y="1847520"/>
            <a:ext cx="3487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0 - When the battery was connected, the glass tube suddenly lit up with a greenish-colored glow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" name="Picture 17" descr="im10"/>
          <p:cNvPicPr/>
          <p:nvPr/>
        </p:nvPicPr>
        <p:blipFill>
          <a:blip r:embed="rId1"/>
          <a:stretch/>
        </p:blipFill>
        <p:spPr>
          <a:xfrm>
            <a:off x="4572000" y="2590920"/>
            <a:ext cx="4508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Crooke</a:t>
            </a:r>
            <a:r>
              <a:rPr b="0" lang="ja-JP" sz="4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s Experiment</a:t>
            </a: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 - </a:t>
            </a: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athode Ray tub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847520"/>
            <a:ext cx="4707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70 - When the battery was connected, the glass tube suddenly lit up with a greenish-colored glow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-shaped object was getting in the way of the beam and blocking i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son used this tube and added a magnet. The beam was bent in the direction of the magnet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Picture 17" descr="im10"/>
          <p:cNvPicPr/>
          <p:nvPr/>
        </p:nvPicPr>
        <p:blipFill>
          <a:blip r:embed="rId1"/>
          <a:stretch/>
        </p:blipFill>
        <p:spPr>
          <a:xfrm>
            <a:off x="4572000" y="2590920"/>
            <a:ext cx="45086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Thomson</a:t>
            </a:r>
            <a:r>
              <a:rPr b="0" lang="ja-JP" sz="4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s use ofCrooke</a:t>
            </a:r>
            <a:r>
              <a:rPr b="0" lang="ja-JP" sz="4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323232"/>
                </a:solidFill>
                <a:latin typeface="Calibri"/>
              </a:rPr>
              <a:t>s Experiment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847520"/>
            <a:ext cx="8686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70 - When the battery was connected, the glass tube suddenly lit up with a greenish-colored glow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-shaped object was getting in the way of the beam and blocking i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son used this tube and added a magnet. The beam was bent in the direction of the magnet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fferent elements are made of different atom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1028" descr="Dalton_atomic_model"/>
          <p:cNvPicPr/>
          <p:nvPr/>
        </p:nvPicPr>
        <p:blipFill>
          <a:blip r:embed="rId1"/>
          <a:stretch/>
        </p:blipFill>
        <p:spPr>
          <a:xfrm>
            <a:off x="3657600" y="30481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7" name="Title 1"/>
          <p:cNvSpPr/>
          <p:nvPr/>
        </p:nvSpPr>
        <p:spPr>
          <a:xfrm>
            <a:off x="1371600" y="3048120"/>
            <a:ext cx="2286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3232"/>
                </a:solidFill>
                <a:latin typeface="Calibri"/>
              </a:rPr>
              <a:t>Dalton</a:t>
            </a:r>
            <a:r>
              <a:rPr b="0" lang="ja-JP" sz="24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323232"/>
                </a:solidFill>
                <a:latin typeface="Calibri"/>
              </a:rPr>
              <a:t>s Model of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alt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theory was tested by William Crookes and his cathode-ray tube experim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581280" y="3160800"/>
            <a:ext cx="43434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4"/>
          <p:cNvSpPr/>
          <p:nvPr/>
        </p:nvSpPr>
        <p:spPr>
          <a:xfrm>
            <a:off x="457200" y="1295280"/>
            <a:ext cx="80931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dow showed Crookes that something was traveling in a straight line from the cathode (-) to the anode (+), similar to the beam of a flash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oss-shaped object was getting in the way of the beam and blocking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im10"/>
          <p:cNvPicPr/>
          <p:nvPr/>
        </p:nvPicPr>
        <p:blipFill>
          <a:blip r:embed="rId1"/>
          <a:stretch/>
        </p:blipFill>
        <p:spPr>
          <a:xfrm>
            <a:off x="5257800" y="4307040"/>
            <a:ext cx="3505320" cy="228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77"/>
          <p:cNvSpPr/>
          <p:nvPr/>
        </p:nvSpPr>
        <p:spPr>
          <a:xfrm>
            <a:off x="457200" y="4307040"/>
            <a:ext cx="4800600" cy="26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okes hypothesized that the green glow in the tube was caused by rays, or streams of parti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026"/>
          <p:cNvSpPr/>
          <p:nvPr/>
        </p:nvSpPr>
        <p:spPr>
          <a:xfrm>
            <a:off x="609480" y="1371600"/>
            <a:ext cx="784872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cientists were not convinced that the cathode rays were streams of p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897, J.J. Thomson, an English physicist, tried to clear up the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placed a magnet beside the tube from Crooke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experiments. The beam is bent in the direction of the mag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cannot be bent by a magnet, so the beam must be made up of charged particles of matter that came from the catho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312372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758880" indent="-42696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omson revised Dalt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 to include a sphere with a positive charge and negatively charged electrons spread evenly within the positiv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58880" indent="-42696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negatively charged electrons and the positive charge in the sphere neutralized each othe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58880" indent="-4269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228600" y="1600200"/>
            <a:ext cx="8229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J.J Thomson discovered negatively charged particles, </a:t>
            </a: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which are a part of every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90720" y="77616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oms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thompson_atomic_model"/>
          <p:cNvPicPr/>
          <p:nvPr/>
        </p:nvPicPr>
        <p:blipFill>
          <a:blip r:embed="rId1"/>
          <a:stretch/>
        </p:blipFill>
        <p:spPr>
          <a:xfrm>
            <a:off x="2629080" y="19051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Models of the Atom 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(cont</a:t>
            </a:r>
            <a:r>
              <a:rPr b="0" lang="ja-JP" sz="2800" spc="-1" strike="noStrike">
                <a:solidFill>
                  <a:srgbClr val="323232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d)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arnest Rutherford tested Thomson</a:t>
            </a:r>
            <a:r>
              <a:rPr b="0" lang="ja-JP" sz="3200" spc="-1" strike="noStrike">
                <a:solidFill>
                  <a:srgbClr val="000000"/>
                </a:solidFill>
                <a:latin typeface="Constanti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 model, which was found to be an inaccurate model of the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73040" indent="-473040">
              <a:spcBef>
                <a:spcPts val="799"/>
              </a:spcBef>
              <a:buClr>
                <a:srgbClr val="1b587c"/>
              </a:buClr>
              <a:buSzPct val="95000"/>
              <a:buFont typeface="Constant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n atomic model with a nucleus was develop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40960" indent="-4730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ositively charged proton is located in a very small space at the center of an ato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40960" indent="-473040">
              <a:spcBef>
                <a:spcPts val="799"/>
              </a:spcBef>
              <a:buClr>
                <a:srgbClr val="080400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43:58Z</dcterms:created>
  <dc:creator>Denice Fogel</dc:creator>
  <dc:description/>
  <dc:language>en-US</dc:language>
  <cp:lastModifiedBy>St. Aloysius</cp:lastModifiedBy>
  <cp:lastPrinted>2011-03-24T03:42:03Z</cp:lastPrinted>
  <dcterms:modified xsi:type="dcterms:W3CDTF">2012-10-03T19:12:40Z</dcterms:modified>
  <cp:revision>75</cp:revision>
  <dc:subject/>
  <dc:title>Inside the Atom</dc:title>
</cp:coreProperties>
</file>